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352A-E07C-4894-B538-67973454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8DD-B527-41FC-9851-8313AE2D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F12F-15CC-4FC6-B6DD-C927E5CA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84B0-77BF-4ED2-8722-E7D2D965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C08F-DA37-4FD0-AD39-E7991E8F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2E40-4C2A-4E5F-BB4D-C5793753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3CDE-8CA4-4161-A9F4-67FB8A35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C595-0651-416D-9D45-C30F989D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DD4D-73C8-4221-9B0A-EBB62DFA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1662-9DF9-4EBC-8CA3-AA9D22D0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3656-CFE9-471C-8F5D-542F1BA7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989-8A83-4870-899B-FCB9EE36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2832-AE32-4BAA-8B15-A1DA43E3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0EBA-5258-450D-982A-6BFA1A0F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F10D-7228-4AE1-BAFF-07585D44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3A7D-8786-4B0A-8ADA-93565F4E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ED46-2D8A-44B3-93CA-E407D8E2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F92E-A92A-40A2-B2AC-A41CF1DC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52A-907B-472A-9476-AAE7EA23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5E5A-90A4-4279-870C-40822E88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0A2-41FC-4B46-80FD-C444FA5C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DF24-868A-4785-A05B-C9DAE786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F2F-6AE3-4D7D-BE1D-17C52C1D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1243-E74B-48E7-AD49-6A2EF6A0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CDB3-3F53-47A7-A522-8BFAAFB4B2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D48A-216F-4FEB-916A-4BE43C7911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pter 8 - Ionic Compoun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133720"/>
            <a:ext cx="78487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emical Bo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 force that holds two atoms toget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action between a positive nucleus a negativ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action between positive and negative 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rmation of 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 form positive ions (Cations) by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lectrons to attain a noble gas electron configu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2743200"/>
            <a:ext cx="243864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:  1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2089440" cy="2286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724280" y="2743200"/>
            <a:ext cx="2895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24280" y="4572000"/>
            <a:ext cx="2575080" cy="2819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800600" y="4572000"/>
            <a:ext cx="2895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43480" y="462276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2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5041800"/>
            <a:ext cx="0" cy="82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65760" y="5867280"/>
            <a:ext cx="444600" cy="432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21360" y="603252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: 1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5270400" y="4673520"/>
            <a:ext cx="2575080" cy="2489400"/>
            <a:chOff x="5270400" y="4673520"/>
            <a:chExt cx="2575080" cy="248940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5270400" y="4673520"/>
              <a:ext cx="2575080" cy="24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311880" y="5816880"/>
              <a:ext cx="444600" cy="3812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rmation of 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metals form negative ions (anions) by gaining electrons to attain a noble gas electron configu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2705040"/>
            <a:ext cx="24382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  1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648320"/>
            <a:ext cx="2895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270400" y="2908440"/>
            <a:ext cx="2403720" cy="2628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57800" y="2743200"/>
            <a:ext cx="3124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12160" y="595620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: 1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45338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35440" y="5029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onic Bond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rostatic force that holds oppositely charged particles together in an ionic compound is referred to as 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87520" y="3170160"/>
            <a:ext cx="399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6440" y="411480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         +          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343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9280" y="41148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Li ]     +     [  Br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60160" y="41148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562000" y="4114800"/>
            <a:ext cx="75960" cy="76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435640" y="4114800"/>
            <a:ext cx="76320" cy="76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674680" y="4203720"/>
            <a:ext cx="75960" cy="76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82600" y="4330800"/>
            <a:ext cx="75960" cy="75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560920" y="4403880"/>
            <a:ext cx="76320" cy="75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333400" y="4243320"/>
            <a:ext cx="75960" cy="76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446080" y="4410000"/>
            <a:ext cx="75960" cy="76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333400" y="4349880"/>
            <a:ext cx="75960" cy="75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813280" y="4087800"/>
            <a:ext cx="142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95440" y="5537160"/>
            <a:ext cx="32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22880" y="3890880"/>
            <a:ext cx="3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1960" y="5173560"/>
            <a:ext cx="798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number of electrons lost from a metal must equal the number of electrons gained by a nonme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perties of Ionic Compoun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stalline so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melt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boil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 of ionic compounds conduct electricit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electroly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ion of ionic bonds is always exother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59280" y="1744560"/>
            <a:ext cx="225900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onic Compounds Specifi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6204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mplest ratio of ions represented in an ionic compound is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mula un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xidation 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 oxidation state) is equal to the charge of an 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lyatomic anion that contains one or more oxygen atom is called 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xyan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tallic Bonds (Electron Sea Model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8480" y="1065240"/>
            <a:ext cx="7666200" cy="4648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nce electrons from each metal atom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ocalized and move easily from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perties of Meta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ately high melting points and high boiling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 are malleable and duc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ly moving electrons in metals explain why metals are good conductors of heat and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tal Alloy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4240" y="1308240"/>
            <a:ext cx="76374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mogeneous mixture of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2960" y="2394000"/>
            <a:ext cx="485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4200" y="1898640"/>
            <a:ext cx="8004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per (67-90%), Zinc (10-33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n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per (70-95%), Zinc (1-25%), Tin (1-18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d, 10 Car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d (42%), Silver (10-20%), Lead (0-1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w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inless St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6680" y="3637080"/>
            <a:ext cx="47527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toms of similar 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substiute.gif (11610 bytes)"/>
          <p:cNvPicPr/>
          <p:nvPr/>
        </p:nvPicPr>
        <p:blipFill>
          <a:blip r:embed="rId1"/>
          <a:stretch/>
        </p:blipFill>
        <p:spPr>
          <a:xfrm>
            <a:off x="771480" y="4438800"/>
            <a:ext cx="2619360" cy="1942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946760" y="3670200"/>
            <a:ext cx="39178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sti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toms of different 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inter.gif (11150 bytes)"/>
          <p:cNvPicPr/>
          <p:nvPr/>
        </p:nvPicPr>
        <p:blipFill>
          <a:blip r:embed="rId2"/>
          <a:stretch/>
        </p:blipFill>
        <p:spPr>
          <a:xfrm>
            <a:off x="4959360" y="4626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1:55:07Z</dcterms:created>
  <dc:creator>Dawn Pav</dc:creator>
  <dc:description/>
  <dc:language>en-US</dc:language>
  <cp:lastModifiedBy>udsd</cp:lastModifiedBy>
  <dcterms:modified xsi:type="dcterms:W3CDTF">2009-02-09T19:05:00Z</dcterms:modified>
  <cp:revision>7</cp:revision>
  <dc:subject/>
  <dc:title>Chapter 8 - Ionic Compounds</dc:title>
</cp:coreProperties>
</file>